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16F5-0BB2-49DD-AE8B-E39CD0E67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5EFB-3062-4222-BCED-341C7149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16A6-CE5B-4991-9560-6576B7CBA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B63D-6C13-415D-9137-4DE586AE2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84C4-56BB-4162-A9F6-EE4D65E31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2650-5FED-48A8-AA00-6EF531C4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A7F0-6A34-48AF-86ED-6ED3313F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4617-9AB4-4D9F-9A13-2B5B307E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3DD2D-A400-4925-81EF-B7468A31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A897-853B-42B8-85B9-2219A6A0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7CD0-F650-4F1A-A9FA-F453AF34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D8FE-987C-454C-99D3-3611969D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4F30-D5D5-43F6-8105-CEFE4D4E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AA3A-8C4D-4396-867A-95D07AA9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641A-F12C-460D-8560-C6BC8B83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8C9C-9D4D-418A-818C-6D89E68B4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4D28-CFBB-4312-ADFF-71C3C5310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7AF0-9328-4BF0-A081-6CE7FF90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F8A9-8C5C-4ABB-A61C-FA9F0433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913D-3199-485C-BC5F-483AB3CF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DEFA-674D-4F71-9F4A-7D56B6B2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C31F-24AF-43F8-8033-275A18C7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3421-47F3-41D8-A2C3-B4663D88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5F34-63A2-4E2A-B923-637DFDD9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76E8-7534-4463-B8EC-C47C54CEF893}" type="datetime">
              <a:rPr b="0" lang="en-US" sz="1200" spc="-1" strike="noStrike">
                <a:solidFill>
                  <a:srgbClr val="ffffff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448D-9270-4552-AED7-798C344A724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C7BD-A2AF-4209-8795-3A83091FC3E0}" type="datetime">
              <a:rPr b="0" lang="en-US" sz="1200" spc="-1" strike="noStrike">
                <a:solidFill>
                  <a:srgbClr val="ffffff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D6EC-780D-4704-81EE-E561846305B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684360" y="838080"/>
            <a:ext cx="7848360" cy="206892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Rzymski system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zapisywania liczb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1332000" y="3500280"/>
            <a:ext cx="6408720" cy="30862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6732720" y="2997360"/>
            <a:ext cx="2297160" cy="316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64A5-3A57-4954-AA27-C33BAD85F59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Zapisz w systemie rzymskim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11280" y="2205000"/>
            <a:ext cx="4043520" cy="226080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Verdana"/>
              </a:rPr>
              <a:t>     </a:t>
            </a:r>
            <a:r>
              <a:rPr b="1" lang="en-US" sz="4400" spc="-1" strike="noStrike">
                <a:solidFill>
                  <a:srgbClr val="ff3300"/>
                </a:solidFill>
                <a:latin typeface="Verdana"/>
              </a:rPr>
              <a:t>1999 =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2979-FFCB-4DDC-9621-7EEA1265DE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1999 = MCMXCIX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iczba rzymska składa się z wydzielonych fragmentów, które są równoznaczne z cyframi arabskimi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W naszym przykładzie takimi "cyfrowymi fragmentami" były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M - 1000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CM - 900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XC - 90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IX - 9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FE55-9386-4262-AF61-9690A2C32F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250920" y="333360"/>
            <a:ext cx="8642160" cy="126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akie są inne zasady obowiązujące przy tworzeniu liczb systemem rzymski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11280" y="1628640"/>
            <a:ext cx="7315200" cy="11178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ok siebie można zapisać tylko trzy jednakowe znaki I, X, C, 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9280" y="2852640"/>
            <a:ext cx="6858000" cy="111780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Nie wolno powtarzać obok siebie znaków V, L, 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39640" y="4076640"/>
            <a:ext cx="6858000" cy="14961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ie może być dwóch znaków oznaczających liczby mniejsze bezpośrednio przed znakiem oznaczającym liczbę większą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476360" y="5445000"/>
            <a:ext cx="6858000" cy="825480"/>
          </a:xfrm>
          <a:prstGeom prst="rect">
            <a:avLst/>
          </a:pr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Verdana"/>
              </a:rPr>
              <a:t>Znakami poprzedzającymi znak oznaczający większą liczbę mogą być tylko znaki: I, X, C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9539-CA7B-4A98-969E-908450D9F1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50920" y="549360"/>
            <a:ext cx="8512200" cy="169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Zapisz liczby w systemie rzymskim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59280" y="2421000"/>
            <a:ext cx="1904760" cy="8251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78 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800600" y="2438280"/>
            <a:ext cx="2057400" cy="8251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LXXVII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352680" y="3200400"/>
            <a:ext cx="14479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94 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24280" y="3200400"/>
            <a:ext cx="16765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XCIV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895480" y="3962520"/>
            <a:ext cx="2133720" cy="8251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116 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00600" y="3962520"/>
            <a:ext cx="1523880" cy="8251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XV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59280" y="4797360"/>
            <a:ext cx="16761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465 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16360" y="4797360"/>
            <a:ext cx="22100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DLXV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987640" y="5661000"/>
            <a:ext cx="1828800" cy="8251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999 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643280" y="5661000"/>
            <a:ext cx="2880000" cy="8251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MXCIX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18E8-BC59-4FF9-94A1-8792299F07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95280" y="476280"/>
            <a:ext cx="8367840" cy="14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Odczytaj liczby zapisane w systemie rzymskim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200400" y="251460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XLV 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4120" y="251460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4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916360" y="321300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LXXIX 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334120" y="320040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79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666880" y="388620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CXLVI 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34120" y="388620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246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666880" y="457200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DXCIV 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86400" y="457200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49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352680" y="52578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MMM 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410080" y="52578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30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07EA-6ADE-435D-84B0-C4DCBFA2C1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4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24000" y="609480"/>
            <a:ext cx="8362800" cy="14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Gdzie dzisiaj używa się zapisu liczb systemem rzymskim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92360" y="2133720"/>
            <a:ext cx="6553080" cy="67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zy zapisywaniu dat i wiekó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05120" y="2666880"/>
            <a:ext cx="7238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11  XI 191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26920" y="3500280"/>
            <a:ext cx="7315200" cy="67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zy numeracji ważnych roczn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4038480"/>
            <a:ext cx="5715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XV Konkurs Chopinowsk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332000" y="4941720"/>
            <a:ext cx="7238880" cy="67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zy imionach kolejnych króló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66880" y="5562720"/>
            <a:ext cx="6096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Zygmunt III Wa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30F8-5065-4629-B269-E57627B9AB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250920" y="533520"/>
            <a:ext cx="8588160" cy="14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Gdzie jeszcze używa się zapisu liczb systemem rzymskim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55640" y="2209680"/>
            <a:ext cx="7931160" cy="67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Do oznaczania godzin na zegar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763640" y="3357720"/>
            <a:ext cx="5791320" cy="67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rzy numeracji rozdziałó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187280" y="4365720"/>
            <a:ext cx="6400800" cy="67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Na tablicach pamiątkowy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42920" y="5562720"/>
            <a:ext cx="7777080" cy="67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W inskrypcjach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(napis wyryty w twardym materiale)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539E-857E-4765-9F70-7E3FBDCB90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UWAG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Za pomocą dostępnych znaków można zapisać liczby od 1 do 3999, gdyż nie istnieją znaki dla liczb większych od 1000.   Większe liczby można zapisywać poprzez umieszczenie ich między dwoma znakami |, co oznacza liczbę stukrotnie większą. Innym znakiem pełniącym podobną funkcję jest nadkreślenie oznaczające pomnożenie przez 1000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5D3F-8DA9-46EC-B7F8-C4A92117D5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905120" y="609480"/>
            <a:ext cx="72388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24000" y="609480"/>
            <a:ext cx="8439120" cy="169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Jak zapisać systemem rzymski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większe liczb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050920" y="227664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I  =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10 0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981080" y="3048120"/>
            <a:ext cx="579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XLVI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4 6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05120" y="396252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DCIV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60 4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11280" y="4952880"/>
            <a:ext cx="8208720" cy="126324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Liczby w pionowych kreskach zwiększają  swoją wartość  stukrotn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36BD-5ABD-4316-BDEA-A9457F6F97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468360" y="838080"/>
            <a:ext cx="7989840" cy="14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Jak zapisać jeszcze większe liczby systemem rzymskim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76720" y="2276640"/>
            <a:ext cx="237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XXX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2520" y="2743200"/>
            <a:ext cx="838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657600" y="2819520"/>
            <a:ext cx="1066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733920" y="2819520"/>
            <a:ext cx="838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733920" y="2819520"/>
            <a:ext cx="914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438280" y="3124080"/>
            <a:ext cx="436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DV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340000" y="3962520"/>
            <a:ext cx="43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MM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68360" y="4876920"/>
            <a:ext cx="8280360" cy="126324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Liczby podkreślone u góry zwiększają swoją wartość tysiąckrotn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635280" y="2492280"/>
            <a:ext cx="107964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924360" y="3284640"/>
            <a:ext cx="7920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438520" y="2205000"/>
            <a:ext cx="173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30 0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35640" y="3068640"/>
            <a:ext cx="202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505 0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91080" y="3870360"/>
            <a:ext cx="243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2 000 0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CB6F-AA3B-4D26-8CBA-572FF82510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" descr=""/>
          <p:cNvPicPr/>
          <p:nvPr/>
        </p:nvPicPr>
        <p:blipFill>
          <a:blip r:embed="rId1"/>
          <a:srcRect l="0" t="0" r="0" b="11536"/>
          <a:stretch/>
        </p:blipFill>
        <p:spPr>
          <a:xfrm>
            <a:off x="857160" y="4429080"/>
            <a:ext cx="4033800" cy="22147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f45"/>
                </a:solidFill>
                <a:latin typeface="Arial"/>
                <a:ea typeface="Arial"/>
              </a:rPr>
              <a:t>CYFRY RZYMSKIE</a:t>
            </a:r>
            <a:endParaRPr b="0" lang="en-US" sz="28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324000" y="1706400"/>
          <a:ext cx="8640720" cy="2322720"/>
        </p:xfrm>
        <a:graphic>
          <a:graphicData uri="http://schemas.openxmlformats.org/drawingml/2006/table">
            <a:tbl>
              <a:tblPr/>
              <a:tblGrid>
                <a:gridCol w="1008000"/>
                <a:gridCol w="1152360"/>
                <a:gridCol w="1150920"/>
                <a:gridCol w="1081080"/>
                <a:gridCol w="1368360"/>
                <a:gridCol w="1224000"/>
                <a:gridCol w="1656000"/>
              </a:tblGrid>
              <a:tr h="116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V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L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C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M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16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5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10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</a:tr>
            </a:tbl>
          </a:graphicData>
        </a:graphic>
      </p:graphicFrame>
      <p:pic>
        <p:nvPicPr>
          <p:cNvPr id="335" name="Picture 2" descr=""/>
          <p:cNvPicPr/>
          <p:nvPr/>
        </p:nvPicPr>
        <p:blipFill>
          <a:blip r:embed="rId2"/>
          <a:stretch/>
        </p:blipFill>
        <p:spPr>
          <a:xfrm>
            <a:off x="5429160" y="4429080"/>
            <a:ext cx="2643120" cy="223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96B3-F480-4450-A666-241D375390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aca z podręcznikiem -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tematyka z plusem.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Ćwiczenie A str 1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Zad. 1,2,3/1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Zad.5/1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ffffff"/>
                </a:solidFill>
                <a:latin typeface="Verdana"/>
              </a:rPr>
              <a:t>dla chętnych na kartkach: zad.6,7/1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004B-0DA6-42D9-B26F-65B561D9CE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124000" y="1125360"/>
            <a:ext cx="63248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pochodzi od słowa centum = 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352680"/>
            <a:ext cx="59436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pl-PL" sz="3600" spc="-1" strike="noStrike">
                <a:solidFill>
                  <a:srgbClr val="000099"/>
                </a:solidFill>
                <a:latin typeface="Arial"/>
              </a:rPr>
              <a:t>pochodzi od słowa  mille = 10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62080" y="674640"/>
            <a:ext cx="7858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C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918160" y="3284640"/>
            <a:ext cx="87876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M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54ED-6DC6-4337-ACE1-E18EFE0BAA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87280" y="765000"/>
            <a:ext cx="6858000" cy="14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Jak systemem rzymskim zapisać inne liczb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87280" y="2895480"/>
            <a:ext cx="7488360" cy="222948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Wystarczy dodawać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lub odejmować znaki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9530-9C3C-4E36-8D3E-4A321E7E03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395280" y="404640"/>
            <a:ext cx="8370720" cy="169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Które liczby powstają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z dodawania znaków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403280" y="2060640"/>
            <a:ext cx="4681440" cy="752040"/>
          </a:xfrm>
          <a:prstGeom prst="rect">
            <a:avLst/>
          </a:pr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6  =  (V + I)  =  V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638680" y="2666880"/>
            <a:ext cx="76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15000" y="2666880"/>
            <a:ext cx="99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95640" y="2781360"/>
            <a:ext cx="5562360" cy="75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1  =  (X + I)  =  X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03280" y="3500280"/>
            <a:ext cx="6248520" cy="752040"/>
          </a:xfrm>
          <a:prstGeom prst="rect">
            <a:avLst/>
          </a:pr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60  =  (L + X)  =  L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68360" y="4221000"/>
            <a:ext cx="6096240" cy="75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10  =  (C + X)  =  C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403280" y="5084640"/>
            <a:ext cx="6400800" cy="752040"/>
          </a:xfrm>
          <a:prstGeom prst="rect">
            <a:avLst/>
          </a:pr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600  =  (D + C)  =  D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68360" y="5877000"/>
            <a:ext cx="5486400" cy="75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100  =  (M + C)  =  M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1AAA-3E95-45C2-A522-87BD711CE9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539640" y="0"/>
            <a:ext cx="8083800" cy="169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Które liczby powstają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z odejmowania  znaków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08000" y="1773360"/>
            <a:ext cx="6782040" cy="75204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  =  (V – 1)  =  IV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116000" y="2565360"/>
            <a:ext cx="6248520" cy="752040"/>
          </a:xfrm>
          <a:prstGeom prst="rect">
            <a:avLst/>
          </a:pr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9  =  (X – I)  =  I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79640" y="3357720"/>
            <a:ext cx="6324480" cy="75204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  =  (L – X)  =  X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116000" y="4149720"/>
            <a:ext cx="6477120" cy="752040"/>
          </a:xfrm>
          <a:prstGeom prst="rect">
            <a:avLst/>
          </a:pr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90  =  (C – X)  =  X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057400" y="4724280"/>
            <a:ext cx="5715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79640" y="4941720"/>
            <a:ext cx="6705720" cy="75204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0  =  (D – C)  =  C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116000" y="5734080"/>
            <a:ext cx="6781680" cy="752040"/>
          </a:xfrm>
          <a:prstGeom prst="rect">
            <a:avLst/>
          </a:prstGeom>
          <a:solidFill>
            <a:srgbClr val="9ac2c0"/>
          </a:solidFill>
          <a:ln w="9360">
            <a:solidFill>
              <a:srgbClr val="c4c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900  =  (M – C)  =  C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CC35-10C1-4AA7-AE4E-97525E166D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1619280" y="333360"/>
            <a:ext cx="6048360" cy="56278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                     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3A84-7CE5-423E-BB08-0357145059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ak czytamy liczby: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53060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VII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=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+ (2 •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) = 7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XIV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=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+ (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) = 14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XXIX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= (2 •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) + (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) = 29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CXLV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=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00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+ (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50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) +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= 145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CDXIX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= (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500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00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) +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+ (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0 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) = 419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D968-00FC-43EE-8B1B-BA0AB21360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 CC L XX VIII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=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(500 + 2 • 100) +(50 + 2 •10) + (5 + 3 • 1) = 778   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ak czytamy liczby: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55640" y="3284640"/>
            <a:ext cx="8207280" cy="947520"/>
          </a:xfrm>
          <a:prstGeom prst="rect">
            <a:avLst/>
          </a:pr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lang="pl-PL" sz="3600" spc="-1" strike="noStrike">
                <a:solidFill>
                  <a:srgbClr val="ffffff"/>
                </a:solidFill>
                <a:latin typeface="Verdana"/>
              </a:rPr>
              <a:t>M CM L XXX IX</a:t>
            </a:r>
            <a:r>
              <a:rPr b="0" lang="pl-PL" sz="3600" spc="-1" strike="noStrike">
                <a:solidFill>
                  <a:srgbClr val="ffffff"/>
                </a:solidFill>
                <a:latin typeface="Verdana"/>
              </a:rPr>
              <a:t> =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3300"/>
                </a:solidFill>
                <a:latin typeface="Verdana"/>
              </a:rPr>
              <a:t>1000</a:t>
            </a:r>
            <a:r>
              <a:rPr b="0" lang="pl-PL" sz="2000" spc="-1" strike="noStrike">
                <a:solidFill>
                  <a:srgbClr val="ff3300"/>
                </a:solidFill>
                <a:latin typeface="Verdana"/>
              </a:rPr>
              <a:t> + (</a:t>
            </a:r>
            <a:r>
              <a:rPr b="1" lang="pl-PL" sz="2000" spc="-1" strike="noStrike">
                <a:solidFill>
                  <a:srgbClr val="ff3300"/>
                </a:solidFill>
                <a:latin typeface="Verdana"/>
              </a:rPr>
              <a:t>1000</a:t>
            </a:r>
            <a:r>
              <a:rPr b="0" lang="pl-PL" sz="2000" spc="-1" strike="noStrike">
                <a:solidFill>
                  <a:srgbClr val="ff3300"/>
                </a:solidFill>
                <a:latin typeface="Verdana"/>
              </a:rPr>
              <a:t> - </a:t>
            </a:r>
            <a:r>
              <a:rPr b="1" lang="pl-PL" sz="2000" spc="-1" strike="noStrike">
                <a:solidFill>
                  <a:srgbClr val="ff3300"/>
                </a:solidFill>
                <a:latin typeface="Verdana"/>
              </a:rPr>
              <a:t>100</a:t>
            </a:r>
            <a:r>
              <a:rPr b="0" lang="pl-PL" sz="2000" spc="-1" strike="noStrike">
                <a:solidFill>
                  <a:srgbClr val="ff3300"/>
                </a:solidFill>
                <a:latin typeface="Verdana"/>
              </a:rPr>
              <a:t>) + (</a:t>
            </a:r>
            <a:r>
              <a:rPr b="1" lang="pl-PL" sz="2000" spc="-1" strike="noStrike">
                <a:solidFill>
                  <a:srgbClr val="ff3300"/>
                </a:solidFill>
                <a:latin typeface="Verdana"/>
              </a:rPr>
              <a:t>50</a:t>
            </a:r>
            <a:r>
              <a:rPr b="0" lang="pl-PL" sz="2000" spc="-1" strike="noStrike">
                <a:solidFill>
                  <a:srgbClr val="ff3300"/>
                </a:solidFill>
                <a:latin typeface="Verdana"/>
              </a:rPr>
              <a:t> + 3 • </a:t>
            </a:r>
            <a:r>
              <a:rPr b="1" lang="pl-PL" sz="2000" spc="-1" strike="noStrike">
                <a:solidFill>
                  <a:srgbClr val="ff3300"/>
                </a:solidFill>
                <a:latin typeface="Verdana"/>
              </a:rPr>
              <a:t>10</a:t>
            </a:r>
            <a:r>
              <a:rPr b="0" lang="pl-PL" sz="2000" spc="-1" strike="noStrike">
                <a:solidFill>
                  <a:srgbClr val="ff3300"/>
                </a:solidFill>
                <a:latin typeface="Verdana"/>
              </a:rPr>
              <a:t>) + (</a:t>
            </a:r>
            <a:r>
              <a:rPr b="1" lang="pl-PL" sz="2000" spc="-1" strike="noStrike">
                <a:solidFill>
                  <a:srgbClr val="ff3300"/>
                </a:solidFill>
                <a:latin typeface="Verdana"/>
              </a:rPr>
              <a:t>10</a:t>
            </a:r>
            <a:r>
              <a:rPr b="0" lang="pl-PL" sz="2000" spc="-1" strike="noStrike">
                <a:solidFill>
                  <a:srgbClr val="ff3300"/>
                </a:solidFill>
                <a:latin typeface="Verdana"/>
              </a:rPr>
              <a:t> - </a:t>
            </a:r>
            <a:r>
              <a:rPr b="1" lang="pl-PL" sz="20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0" lang="pl-PL" sz="2000" spc="-1" strike="noStrike">
                <a:solidFill>
                  <a:srgbClr val="ff3300"/>
                </a:solidFill>
                <a:latin typeface="Verdana"/>
              </a:rPr>
              <a:t>) = 198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11280" y="4869000"/>
            <a:ext cx="7921440" cy="9475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MM CCC L II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=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(2 •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1000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) + (3 •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100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) +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50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 + (2 •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) = 235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9B0F-1450-4F85-84E2-A2AABFC96E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15:29:06Z</dcterms:created>
  <dc:creator>Elżbieta Salwa</dc:creator>
  <dc:description/>
  <dc:language>en-US</dc:language>
  <cp:lastModifiedBy>Matematyka</cp:lastModifiedBy>
  <dcterms:modified xsi:type="dcterms:W3CDTF">2014-01-03T15:03:54Z</dcterms:modified>
  <cp:revision>99</cp:revision>
  <dc:subject>prezentacja z matematyki dla klas 4 - 6 szkoły podstawowej</dc:subject>
  <dc:title>Prezentacja programu PowerPoint</dc:title>
</cp:coreProperties>
</file>